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1046484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811120"/>
            <a:ext cx="1046484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9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2697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6319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269720" y="5811120"/>
            <a:ext cx="1046484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1046484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1269720" y="5811120"/>
            <a:ext cx="1046484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2697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6319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808160" y="23749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8346600" y="23749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1269720" y="58111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4808160" y="58111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8346600" y="58111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269720" y="2374920"/>
            <a:ext cx="10464840" cy="65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1046484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9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2697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6319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269720" y="5811120"/>
            <a:ext cx="1046484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1046484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269720" y="5811120"/>
            <a:ext cx="1046484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2697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6319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3749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3749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8111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8111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8111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08160" y="23749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346600" y="23749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269720" y="58111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4808160" y="58111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8346600" y="58111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269720" y="2374920"/>
            <a:ext cx="10464840" cy="65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1046484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9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2697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6319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269720" y="5811120"/>
            <a:ext cx="1046484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1046484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269720" y="5811120"/>
            <a:ext cx="1046484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2697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6319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08160" y="23749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346600" y="23749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269720" y="58111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808160" y="58111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346600" y="58111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269720" y="2374920"/>
            <a:ext cx="10464840" cy="65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1046484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9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2697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374920"/>
            <a:ext cx="10464840" cy="65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6319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269720" y="5811120"/>
            <a:ext cx="1046484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1046484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1269720" y="5811120"/>
            <a:ext cx="1046484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2697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6319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08160" y="23749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8346600" y="23749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1269720" y="58111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4808160" y="58111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8346600" y="58111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1269720" y="2374920"/>
            <a:ext cx="10464840" cy="65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1046484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1046484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9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2697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6319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269720" y="5811120"/>
            <a:ext cx="1046484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1046484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1269720" y="5811120"/>
            <a:ext cx="1046484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12697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6319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08160" y="23749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8346600" y="23749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1269720" y="58111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4808160" y="58111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8346600" y="58111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1269720" y="2374920"/>
            <a:ext cx="10464840" cy="65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1046484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9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12697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6319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1269720" y="5811120"/>
            <a:ext cx="1046484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1046484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1269720" y="5811120"/>
            <a:ext cx="1046484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12697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6319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8160" y="23749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346600" y="23749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1269720" y="58111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4808160" y="58111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8346600" y="58111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9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374920"/>
            <a:ext cx="10464840" cy="65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811120"/>
            <a:ext cx="1046484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1046484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811120"/>
            <a:ext cx="1046484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3749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3749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8111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8111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8111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269720" y="2374920"/>
            <a:ext cx="10464840" cy="65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1046484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1046484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9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697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319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269720" y="5811120"/>
            <a:ext cx="1046484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1046484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269720" y="5811120"/>
            <a:ext cx="1046484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2697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66319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08160" y="23749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46600" y="23749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269720" y="58111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4808160" y="58111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8346600" y="58111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2374920"/>
            <a:ext cx="10464840" cy="65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1046484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9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811120"/>
            <a:ext cx="1046484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1046484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811120"/>
            <a:ext cx="1046484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23749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23749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8111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8111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8111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269720" y="2374920"/>
            <a:ext cx="10464840" cy="65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1046484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9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2697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6319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269720" y="5811120"/>
            <a:ext cx="1046484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1046484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269720" y="5811120"/>
            <a:ext cx="1046484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2697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66319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9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08160" y="23749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46600" y="23749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269720" y="58111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808160" y="58111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8346600" y="58111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269720" y="2374920"/>
            <a:ext cx="10464840" cy="65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1046484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9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2697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6319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269720" y="5811120"/>
            <a:ext cx="1046484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1046484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1269720" y="5811120"/>
            <a:ext cx="1046484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2697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6319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8160" y="23749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46600" y="23749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1269720" y="58111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4808160" y="58111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8346600" y="58111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269720" y="2374920"/>
            <a:ext cx="10464840" cy="65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1046484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9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2697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6319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269720" y="5811120"/>
            <a:ext cx="1046484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1046484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1269720" y="5811120"/>
            <a:ext cx="1046484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2697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6319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08160" y="23749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46600" y="23749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1269720" y="58111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4808160" y="58111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8346600" y="58111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269720" y="2374920"/>
            <a:ext cx="10464840" cy="65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1046484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811120"/>
            <a:ext cx="1046484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9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2697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6319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269720" y="5811120"/>
            <a:ext cx="1046484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1046484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269720" y="5811120"/>
            <a:ext cx="1046484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2697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6319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808160" y="23749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346600" y="23749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269720" y="58111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4808160" y="58111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8346600" y="58111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1269720" y="2374920"/>
            <a:ext cx="10464840" cy="65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1046484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2044440"/>
            <a:ext cx="10464840" cy="2857320"/>
          </a:xfrm>
          <a:prstGeom prst="rect">
            <a:avLst/>
          </a:prstGeom>
          <a:noFill/>
          <a:ln w="0">
            <a:noFill/>
          </a:ln>
          <a:effectLst>
            <a:outerShdw dist="50911" dir="13500000" blurRad="0" rotWithShape="0">
              <a:srgbClr val="333333">
                <a:alpha val="75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400" spc="-1" strike="noStrike">
                <a:solidFill>
                  <a:srgbClr val="fffbf2"/>
                </a:solidFill>
                <a:latin typeface="Copperplate"/>
              </a:rPr>
              <a:t>Click to edit the title text format</a:t>
            </a:r>
            <a:endParaRPr b="0" lang="en-US" sz="94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409760"/>
          </a:xfrm>
          <a:prstGeom prst="rect">
            <a:avLst/>
          </a:prstGeom>
          <a:noFill/>
          <a:ln w="0">
            <a:noFill/>
          </a:ln>
          <a:effectLst>
            <a:outerShdw dist="50911" dir="13500000" blurRad="0" rotWithShape="0">
              <a:srgbClr val="333333">
                <a:alpha val="75000"/>
              </a:srgbClr>
            </a:outerShdw>
          </a:effectLst>
        </p:spPr>
        <p:txBody>
          <a:bodyPr lIns="50760" rIns="50760" tIns="50760" bIns="50760" anchor="t">
            <a:normAutofit fontScale="32000"/>
          </a:bodyPr>
          <a:p>
            <a:pPr marL="10944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df9"/>
                </a:solidFill>
                <a:latin typeface="Copperplate"/>
              </a:rPr>
              <a:t>Click to edit the outline text format</a:t>
            </a: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  <a:p>
            <a:pPr lvl="1" marL="109440" indent="-109440" algn="ctr">
              <a:buClr>
                <a:srgbClr val="fffdf9"/>
              </a:buClr>
              <a:buFont typeface="Copperplat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df9"/>
                </a:solidFill>
                <a:latin typeface="Copperplate"/>
              </a:rPr>
              <a:t>Second Outline Level</a:t>
            </a: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  <a:p>
            <a:pPr lvl="2" marL="109440" indent="-109440" algn="ctr">
              <a:buClr>
                <a:srgbClr val="fffdf9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df9"/>
                </a:solidFill>
                <a:latin typeface="Copperplate"/>
              </a:rPr>
              <a:t>Third Outline Level</a:t>
            </a: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  <a:p>
            <a:pPr lvl="3" marL="109440" indent="-109440" algn="ctr">
              <a:buClr>
                <a:srgbClr val="fffdf9"/>
              </a:buClr>
              <a:buFont typeface="Copperplat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df9"/>
                </a:solidFill>
                <a:latin typeface="Copperplate"/>
              </a:rPr>
              <a:t>Fourth Outline Level</a:t>
            </a: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  <a:p>
            <a:pPr lvl="4" marL="109440" indent="-109440" algn="ctr">
              <a:buClr>
                <a:srgbClr val="fffdf9"/>
              </a:buClr>
              <a:buFont typeface="Copperplat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df9"/>
                </a:solidFill>
                <a:latin typeface="Copperplate"/>
              </a:rPr>
              <a:t>Fifth Outline Level</a:t>
            </a: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  <a:p>
            <a:pPr lvl="5" marL="109440" indent="-109440" algn="ctr">
              <a:buClr>
                <a:srgbClr val="fffbf2"/>
              </a:buClr>
              <a:buFont typeface="Copperplat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df9"/>
                </a:solidFill>
                <a:latin typeface="Copperplate"/>
              </a:rPr>
              <a:t>Sixth Outline Level</a:t>
            </a: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  <a:p>
            <a:pPr lvl="6" marL="109440" indent="-109440" algn="ctr">
              <a:buClr>
                <a:srgbClr val="fffbf2"/>
              </a:buClr>
              <a:buFont typeface="Copperplat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df9"/>
                </a:solidFill>
                <a:latin typeface="Copperplate"/>
              </a:rPr>
              <a:t>Seventh Outline Level</a:t>
            </a: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69720" y="6896160"/>
            <a:ext cx="10464840" cy="2108160"/>
          </a:xfrm>
          <a:prstGeom prst="rect">
            <a:avLst/>
          </a:prstGeom>
          <a:noFill/>
          <a:ln w="0">
            <a:noFill/>
          </a:ln>
          <a:effectLst>
            <a:outerShdw dist="50911" dir="13500000" blurRad="0" rotWithShape="0">
              <a:srgbClr val="333333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fffbf2"/>
                </a:solidFill>
                <a:latin typeface="Copperplate"/>
              </a:rPr>
              <a:t>Click to edit the title text format</a:t>
            </a:r>
            <a:endParaRPr b="0" lang="en-US" sz="7800" spc="-1" strike="noStrike">
              <a:solidFill>
                <a:srgbClr val="fffbf2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  <a:effectLst>
            <a:outerShdw dist="50911" dir="13500000" blurRad="0" rotWithShape="0">
              <a:srgbClr val="333333">
                <a:alpha val="75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fffbf2"/>
                </a:solidFill>
                <a:latin typeface="Copperplate"/>
              </a:rPr>
              <a:t>Click to edit the title text format</a:t>
            </a: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35040" y="4800600"/>
            <a:ext cx="5867280" cy="3301920"/>
          </a:xfrm>
          <a:prstGeom prst="rect">
            <a:avLst/>
          </a:prstGeom>
          <a:noFill/>
          <a:ln w="0">
            <a:noFill/>
          </a:ln>
          <a:effectLst>
            <a:outerShdw dist="50911" dir="13500000" blurRad="0" rotWithShape="0">
              <a:srgbClr val="333333">
                <a:alpha val="75000"/>
              </a:srgbClr>
            </a:outerShdw>
          </a:effectLst>
        </p:spPr>
        <p:txBody>
          <a:bodyPr lIns="50760" rIns="50760" tIns="50760" bIns="50760" anchor="t">
            <a:normAutofit fontScale="72000"/>
          </a:bodyPr>
          <a:p>
            <a:pPr marL="24696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df9"/>
                </a:solidFill>
                <a:latin typeface="Copperplate"/>
              </a:rPr>
              <a:t>Click to edit the outline text format</a:t>
            </a: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  <a:p>
            <a:pPr lvl="1" marL="246960" indent="-246960" algn="ctr">
              <a:buClr>
                <a:srgbClr val="fffdf9"/>
              </a:buClr>
              <a:buFont typeface="Copperplat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df9"/>
                </a:solidFill>
                <a:latin typeface="Copperplate"/>
              </a:rPr>
              <a:t>Second Outline Level</a:t>
            </a: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  <a:p>
            <a:pPr lvl="2" marL="246960" indent="-246960" algn="ctr">
              <a:buClr>
                <a:srgbClr val="fffdf9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df9"/>
                </a:solidFill>
                <a:latin typeface="Copperplate"/>
              </a:rPr>
              <a:t>Third Outline Level</a:t>
            </a: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  <a:p>
            <a:pPr lvl="3" marL="246960" indent="-246960" algn="ctr">
              <a:buClr>
                <a:srgbClr val="fffdf9"/>
              </a:buClr>
              <a:buFont typeface="Copperplat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df9"/>
                </a:solidFill>
                <a:latin typeface="Copperplate"/>
              </a:rPr>
              <a:t>Fourth Outline Level</a:t>
            </a: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  <a:p>
            <a:pPr lvl="4" marL="246960" indent="-246960" algn="ctr">
              <a:buClr>
                <a:srgbClr val="fffdf9"/>
              </a:buClr>
              <a:buFont typeface="Copperplat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df9"/>
                </a:solidFill>
                <a:latin typeface="Copperplate"/>
              </a:rPr>
              <a:t>Fifth Outline Level</a:t>
            </a: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  <a:p>
            <a:pPr lvl="5" marL="246960" indent="-246960" algn="ctr">
              <a:buClr>
                <a:srgbClr val="fffbf2"/>
              </a:buClr>
              <a:buFont typeface="Copperplat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df9"/>
                </a:solidFill>
                <a:latin typeface="Copperplate"/>
              </a:rPr>
              <a:t>Sixth Outline Level</a:t>
            </a: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  <a:p>
            <a:pPr lvl="6" marL="246960" indent="-246960" algn="ctr">
              <a:buClr>
                <a:srgbClr val="fffbf2"/>
              </a:buClr>
              <a:buFont typeface="Copperplat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df9"/>
                </a:solidFill>
                <a:latin typeface="Copperplate"/>
              </a:rPr>
              <a:t>Seventh Outline Level</a:t>
            </a: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body"/>
          </p:nvPr>
        </p:nvSpPr>
        <p:spPr>
          <a:xfrm>
            <a:off x="1269720" y="774360"/>
            <a:ext cx="10464840" cy="817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537120" indent="-304920">
              <a:spcBef>
                <a:spcPts val="65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chin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  <a:p>
            <a:pPr lvl="1" marL="923760" indent="-304920">
              <a:spcBef>
                <a:spcPts val="65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chin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  <a:p>
            <a:pPr lvl="2" marL="1310400" indent="-305280">
              <a:spcBef>
                <a:spcPts val="65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chin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  <a:p>
            <a:pPr lvl="3" marL="1697400" indent="-305280">
              <a:spcBef>
                <a:spcPts val="65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chin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  <a:p>
            <a:pPr lvl="4" marL="2083680" indent="-304920">
              <a:spcBef>
                <a:spcPts val="65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chin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  <a:p>
            <a:pPr lvl="5" marL="2083680" indent="-304920">
              <a:spcBef>
                <a:spcPts val="65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chin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  <a:p>
            <a:pPr lvl="6" marL="2083680" indent="-304920">
              <a:spcBef>
                <a:spcPts val="65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chin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7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36560" y="254160"/>
            <a:ext cx="9245520" cy="19936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9f8ed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b7786"/>
                </a:solidFill>
                <a:latin typeface="Copperplate"/>
              </a:rPr>
              <a:t>Click to edit the title text format</a:t>
            </a: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36560" y="2374920"/>
            <a:ext cx="924552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8000"/>
          </a:bodyPr>
          <a:p>
            <a:pPr marL="543240" indent="-308520">
              <a:spcBef>
                <a:spcPts val="4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chin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  <a:p>
            <a:pPr lvl="1" marL="934560" indent="-308520">
              <a:spcBef>
                <a:spcPts val="4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chin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  <a:p>
            <a:pPr lvl="2" marL="1325520" indent="-308880">
              <a:spcBef>
                <a:spcPts val="4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chin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  <a:p>
            <a:pPr lvl="3" marL="1716840" indent="-308880">
              <a:spcBef>
                <a:spcPts val="4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chin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  <a:p>
            <a:pPr lvl="4" marL="2107800" indent="-308520">
              <a:spcBef>
                <a:spcPts val="4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chin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  <a:p>
            <a:pPr lvl="5" marL="2107800" indent="-308520">
              <a:spcBef>
                <a:spcPts val="4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chin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  <a:p>
            <a:pPr lvl="6" marL="2107800" indent="-308520">
              <a:spcBef>
                <a:spcPts val="4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chin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7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09960" y="254160"/>
            <a:ext cx="9245520" cy="19936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9f8ed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b7786"/>
                </a:solidFill>
                <a:latin typeface="Copperplate"/>
              </a:rPr>
              <a:t>Click to edit the title text format</a:t>
            </a: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3009960" y="2374920"/>
            <a:ext cx="924552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8000"/>
          </a:bodyPr>
          <a:p>
            <a:pPr marL="543240" indent="-308520">
              <a:spcBef>
                <a:spcPts val="4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chin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  <a:p>
            <a:pPr lvl="1" marL="934560" indent="-308520">
              <a:spcBef>
                <a:spcPts val="4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chin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  <a:p>
            <a:pPr lvl="2" marL="1325520" indent="-308880">
              <a:spcBef>
                <a:spcPts val="4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chin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  <a:p>
            <a:pPr lvl="3" marL="1716840" indent="-308880">
              <a:spcBef>
                <a:spcPts val="4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chin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  <a:p>
            <a:pPr lvl="4" marL="2107800" indent="-308520">
              <a:spcBef>
                <a:spcPts val="4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chin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  <a:p>
            <a:pPr lvl="5" marL="2107800" indent="-308520">
              <a:spcBef>
                <a:spcPts val="4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chin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  <a:p>
            <a:pPr lvl="6" marL="2107800" indent="-308520">
              <a:spcBef>
                <a:spcPts val="4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chin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9f8ed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b7786"/>
                </a:solidFill>
                <a:latin typeface="Copperplate"/>
              </a:rPr>
              <a:t>Click to edit the title text format</a:t>
            </a: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374920"/>
            <a:ext cx="1046484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8000"/>
          </a:bodyPr>
          <a:p>
            <a:pPr marL="543240" indent="-308520">
              <a:spcBef>
                <a:spcPts val="4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chin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  <a:p>
            <a:pPr lvl="1" marL="934560" indent="-308520">
              <a:spcBef>
                <a:spcPts val="4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chin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  <a:p>
            <a:pPr lvl="2" marL="1325520" indent="-308880">
              <a:spcBef>
                <a:spcPts val="4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chin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  <a:p>
            <a:pPr lvl="3" marL="1716840" indent="-308880">
              <a:spcBef>
                <a:spcPts val="4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chin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  <a:p>
            <a:pPr lvl="4" marL="2107800" indent="-308520">
              <a:spcBef>
                <a:spcPts val="4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chin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  <a:p>
            <a:pPr lvl="5" marL="2107800" indent="-308520">
              <a:spcBef>
                <a:spcPts val="4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chin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  <a:p>
            <a:pPr lvl="6" marL="2107800" indent="-308520">
              <a:spcBef>
                <a:spcPts val="4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chin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9f8ed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b7786"/>
                </a:solidFill>
                <a:latin typeface="Copperplate"/>
              </a:rPr>
              <a:t>Click to edit the title text format</a:t>
            </a: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69720" y="2374920"/>
            <a:ext cx="50418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447480" indent="-244800">
              <a:spcBef>
                <a:spcPts val="5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  <a:p>
            <a:pPr lvl="1" marL="785160" indent="-244800">
              <a:spcBef>
                <a:spcPts val="5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  <a:p>
            <a:pPr lvl="2" marL="1122840" indent="-244800">
              <a:spcBef>
                <a:spcPts val="5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  <a:p>
            <a:pPr lvl="3" marL="1460880" indent="-244800">
              <a:spcBef>
                <a:spcPts val="5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  <a:p>
            <a:pPr lvl="4" marL="1798920" indent="-244800">
              <a:spcBef>
                <a:spcPts val="5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  <a:p>
            <a:pPr lvl="5" marL="1798920" indent="-244800">
              <a:spcBef>
                <a:spcPts val="5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  <a:p>
            <a:pPr lvl="6" marL="1798920" indent="-244800">
              <a:spcBef>
                <a:spcPts val="5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9f8ed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b7786"/>
                </a:solidFill>
                <a:latin typeface="Copperplate"/>
              </a:rPr>
              <a:t>Click to edit the title text format</a:t>
            </a: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1269720" y="2374920"/>
            <a:ext cx="50418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447480" indent="-244800">
              <a:spcBef>
                <a:spcPts val="5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  <a:p>
            <a:pPr lvl="1" marL="785160" indent="-244800">
              <a:spcBef>
                <a:spcPts val="5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  <a:p>
            <a:pPr lvl="2" marL="1122840" indent="-244800">
              <a:spcBef>
                <a:spcPts val="5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  <a:p>
            <a:pPr lvl="3" marL="1460880" indent="-244800">
              <a:spcBef>
                <a:spcPts val="5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  <a:p>
            <a:pPr lvl="4" marL="1798920" indent="-244800">
              <a:spcBef>
                <a:spcPts val="5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  <a:p>
            <a:pPr lvl="5" marL="1798920" indent="-244800">
              <a:spcBef>
                <a:spcPts val="5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  <a:p>
            <a:pPr lvl="6" marL="1798920" indent="-244800">
              <a:spcBef>
                <a:spcPts val="5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9f8ed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b7786"/>
                </a:solidFill>
                <a:latin typeface="Copperplate"/>
              </a:rPr>
              <a:t>Click to edit the title text format</a:t>
            </a: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269720" y="2374920"/>
            <a:ext cx="1046484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marL="512280" indent="-280080">
              <a:spcBef>
                <a:spcPts val="5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  <a:p>
            <a:pPr lvl="1" marL="898920" indent="-280080">
              <a:spcBef>
                <a:spcPts val="5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  <a:p>
            <a:pPr lvl="2" marL="1285560" indent="-280080">
              <a:spcBef>
                <a:spcPts val="5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  <a:p>
            <a:pPr lvl="3" marL="1672200" indent="-280080">
              <a:spcBef>
                <a:spcPts val="5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  <a:p>
            <a:pPr lvl="4" marL="2059200" indent="-280080">
              <a:spcBef>
                <a:spcPts val="5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  <a:p>
            <a:pPr lvl="5" marL="2059200" indent="-280080">
              <a:spcBef>
                <a:spcPts val="5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  <a:p>
            <a:pPr lvl="6" marL="2059200" indent="-280080">
              <a:spcBef>
                <a:spcPts val="5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9f8ed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b7786"/>
                </a:solidFill>
                <a:latin typeface="Copperplate"/>
              </a:rPr>
              <a:t>Click to edit the title text format</a:t>
            </a: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772040" y="2374920"/>
            <a:ext cx="396252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376920" indent="-205920">
              <a:spcBef>
                <a:spcPts val="5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  <a:p>
            <a:pPr lvl="1" marL="661320" indent="-205920">
              <a:spcBef>
                <a:spcPts val="5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  <a:p>
            <a:pPr lvl="2" marL="945720" indent="-205920">
              <a:spcBef>
                <a:spcPts val="5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  <a:p>
            <a:pPr lvl="3" marL="1230120" indent="-205920">
              <a:spcBef>
                <a:spcPts val="5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  <a:p>
            <a:pPr lvl="4" marL="1514880" indent="-205920">
              <a:spcBef>
                <a:spcPts val="5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  <a:p>
            <a:pPr lvl="5" marL="1514880" indent="-205920">
              <a:spcBef>
                <a:spcPts val="5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  <a:p>
            <a:pPr lvl="6" marL="1514880" indent="-205920">
              <a:spcBef>
                <a:spcPts val="5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2730600"/>
            <a:ext cx="10464840" cy="4279680"/>
          </a:xfrm>
          <a:prstGeom prst="rect">
            <a:avLst/>
          </a:prstGeom>
          <a:noFill/>
          <a:ln w="0">
            <a:noFill/>
          </a:ln>
          <a:effectLst>
            <a:outerShdw dist="50911" dir="13500000" blurRad="0" rotWithShape="0">
              <a:srgbClr val="333333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400" spc="-1" strike="noStrike">
                <a:solidFill>
                  <a:srgbClr val="fffbf2"/>
                </a:solidFill>
                <a:latin typeface="Copperplate"/>
              </a:rPr>
              <a:t>Click to edit the title text format</a:t>
            </a:r>
            <a:endParaRPr b="0" lang="en-US" sz="9400" spc="-1" strike="noStrike">
              <a:solidFill>
                <a:srgbClr val="fffbf2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9f8ed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b7786"/>
                </a:solidFill>
                <a:latin typeface="Copperplate"/>
              </a:rPr>
              <a:t>Click to edit the title text format</a:t>
            </a: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hyperlink" Target="mailto:Support@studywiz.com.au" TargetMode="External"/><Relationship Id="rId4" Type="http://schemas.openxmlformats.org/officeDocument/2006/relationships/hyperlink" Target="mailto:Support@studywiz.com.au" TargetMode="External"/><Relationship Id="rId5" Type="http://schemas.openxmlformats.org/officeDocument/2006/relationships/image" Target="../media/image8.png"/><Relationship Id="rId6" Type="http://schemas.openxmlformats.org/officeDocument/2006/relationships/hyperlink" Target="mailto:Support@studywiz.com.au" TargetMode="External"/><Relationship Id="rId7" Type="http://schemas.openxmlformats.org/officeDocument/2006/relationships/hyperlink" Target="mailto:Support@studywiz.com.au" TargetMode="External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1" descr=""/>
          <p:cNvPicPr/>
          <p:nvPr/>
        </p:nvPicPr>
        <p:blipFill>
          <a:blip r:embed="rId1"/>
          <a:stretch/>
        </p:blipFill>
        <p:spPr>
          <a:xfrm>
            <a:off x="163440" y="235080"/>
            <a:ext cx="12943080" cy="9486720"/>
          </a:xfrm>
          <a:prstGeom prst="rect">
            <a:avLst/>
          </a:prstGeom>
          <a:ln w="0">
            <a:noFill/>
          </a:ln>
        </p:spPr>
      </p:pic>
      <p:sp>
        <p:nvSpPr>
          <p:cNvPr id="529" name="Rectangle 2"/>
          <p:cNvSpPr/>
          <p:nvPr/>
        </p:nvSpPr>
        <p:spPr>
          <a:xfrm>
            <a:off x="139680" y="387360"/>
            <a:ext cx="5346720" cy="317520"/>
          </a:xfrm>
          <a:prstGeom prst="rect">
            <a:avLst/>
          </a:prstGeom>
          <a:noFill/>
          <a:ln w="0">
            <a:noFill/>
          </a:ln>
          <a:effectLst>
            <a:outerShdw dist="50911" dir="13500000" blurRad="0" rotWithShape="0">
              <a:srgbClr val="333333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bf2"/>
                </a:solidFill>
                <a:latin typeface="Century Gothic"/>
                <a:ea typeface="Century Gothic"/>
              </a:rPr>
              <a:t>Name: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9f8ed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b7786"/>
                </a:solidFill>
                <a:latin typeface="Century Gothic"/>
                <a:ea typeface="Century Gothic"/>
              </a:rPr>
              <a:t>Goals of this tutorial:</a:t>
            </a: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63280" y="2108160"/>
            <a:ext cx="1127772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68160" indent="-350640">
              <a:lnSpc>
                <a:spcPct val="100000"/>
              </a:lnSpc>
              <a:spcBef>
                <a:spcPts val="40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Orient your way through the Studywiz </a:t>
            </a:r>
            <a:r>
              <a:rPr b="1" lang="en-US" sz="40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Teachers Help environment </a:t>
            </a:r>
            <a:r>
              <a:rPr b="0" lang="en-US" sz="40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- following hyperlinks and hierarchy </a:t>
            </a: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  <a:p>
            <a:pPr marL="668160" indent="-350640">
              <a:lnSpc>
                <a:spcPct val="100000"/>
              </a:lnSpc>
              <a:spcBef>
                <a:spcPts val="40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Familiarise yourself with tabs and symbols at the TOP of the window.</a:t>
            </a: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  <a:p>
            <a:pPr marL="668160" indent="-350640">
              <a:lnSpc>
                <a:spcPct val="100000"/>
              </a:lnSpc>
              <a:spcBef>
                <a:spcPts val="40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Apply a </a:t>
            </a:r>
            <a:r>
              <a:rPr b="1" lang="en-US" sz="40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Teachers Help</a:t>
            </a:r>
            <a:r>
              <a:rPr b="0" lang="en-US" sz="40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 item within the Studywiz Environment to engage your PL.</a:t>
            </a: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9f8ed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b7786"/>
                </a:solidFill>
                <a:latin typeface="Century Gothic"/>
                <a:ea typeface="Century Gothic"/>
              </a:rPr>
              <a:t>The Hierarchy</a:t>
            </a: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80880" y="1574280"/>
            <a:ext cx="12319200" cy="237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68160" indent="-350640">
              <a:lnSpc>
                <a:spcPct val="100000"/>
              </a:lnSpc>
              <a:spcBef>
                <a:spcPts val="40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The Contents Sidebar of Studywiz exposes a hierarchy of folders and documents </a:t>
            </a: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pic>
        <p:nvPicPr>
          <p:cNvPr id="534" name="Picture 3" descr=""/>
          <p:cNvPicPr/>
          <p:nvPr/>
        </p:nvPicPr>
        <p:blipFill>
          <a:blip r:embed="rId3"/>
          <a:stretch/>
        </p:blipFill>
        <p:spPr>
          <a:xfrm>
            <a:off x="5969160" y="3822840"/>
            <a:ext cx="2793960" cy="2019240"/>
          </a:xfrm>
          <a:prstGeom prst="rect">
            <a:avLst/>
          </a:prstGeom>
          <a:ln w="0">
            <a:noFill/>
          </a:ln>
        </p:spPr>
      </p:pic>
      <p:sp>
        <p:nvSpPr>
          <p:cNvPr id="535" name="Line 4"/>
          <p:cNvSpPr/>
          <p:nvPr/>
        </p:nvSpPr>
        <p:spPr>
          <a:xfrm flipH="1">
            <a:off x="4978080" y="3987720"/>
            <a:ext cx="965160" cy="0"/>
          </a:xfrm>
          <a:prstGeom prst="line">
            <a:avLst/>
          </a:prstGeom>
          <a:ln w="38160">
            <a:solidFill>
              <a:srgbClr val="ff008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36" name="Rectangle 5"/>
          <p:cNvSpPr/>
          <p:nvPr/>
        </p:nvSpPr>
        <p:spPr>
          <a:xfrm>
            <a:off x="2481480" y="3844080"/>
            <a:ext cx="213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Open Book symbol</a:t>
            </a:r>
            <a:endParaRPr b="0" lang="en-US" sz="1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37" name="Line 6"/>
          <p:cNvSpPr/>
          <p:nvPr/>
        </p:nvSpPr>
        <p:spPr>
          <a:xfrm flipH="1">
            <a:off x="5219280" y="4394160"/>
            <a:ext cx="965160" cy="0"/>
          </a:xfrm>
          <a:prstGeom prst="line">
            <a:avLst/>
          </a:prstGeom>
          <a:ln w="38160">
            <a:solidFill>
              <a:srgbClr val="ff008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38" name="Rectangle 7"/>
          <p:cNvSpPr/>
          <p:nvPr/>
        </p:nvSpPr>
        <p:spPr>
          <a:xfrm>
            <a:off x="3939840" y="4250520"/>
            <a:ext cx="99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? symbol</a:t>
            </a:r>
            <a:endParaRPr b="0" lang="en-US" sz="1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39" name="Line 8"/>
          <p:cNvSpPr/>
          <p:nvPr/>
        </p:nvSpPr>
        <p:spPr>
          <a:xfrm flipH="1">
            <a:off x="4990680" y="4838760"/>
            <a:ext cx="965160" cy="0"/>
          </a:xfrm>
          <a:prstGeom prst="line">
            <a:avLst/>
          </a:prstGeom>
          <a:ln w="38160">
            <a:solidFill>
              <a:srgbClr val="ff008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40" name="Rectangle 9"/>
          <p:cNvSpPr/>
          <p:nvPr/>
        </p:nvSpPr>
        <p:spPr>
          <a:xfrm>
            <a:off x="2499840" y="4694760"/>
            <a:ext cx="2275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Closed Book symbol</a:t>
            </a:r>
            <a:endParaRPr b="0" lang="en-US" sz="1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41" name="Rectangle 10"/>
          <p:cNvSpPr/>
          <p:nvPr/>
        </p:nvSpPr>
        <p:spPr>
          <a:xfrm>
            <a:off x="1054080" y="6000840"/>
            <a:ext cx="10896480" cy="30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Open Book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 symbol - reveals the Studywiz Teacher Help documents. These documents are represented by the symbol of the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?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 on a piece of paper.</a:t>
            </a:r>
            <a:endParaRPr b="0" lang="en-US" sz="1800" spc="-1" strike="noStrike">
              <a:solidFill>
                <a:srgbClr val="000000"/>
              </a:solidFill>
              <a:latin typeface="Cochin"/>
            </a:endParaRPr>
          </a:p>
          <a:p>
            <a:pPr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Closed Book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 symbol - represents the closed folder, concealing documentation that cannot be seen. A single click on a closed book will change it to the Open Book symbol and reveal a series of documents and/or sub-folders within.</a:t>
            </a:r>
            <a:endParaRPr b="0" lang="en-US" sz="1800" spc="-1" strike="noStrike">
              <a:solidFill>
                <a:srgbClr val="000000"/>
              </a:solidFill>
              <a:latin typeface="Cochin"/>
            </a:endParaRPr>
          </a:p>
          <a:p>
            <a:pPr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A single click on a document or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? symbol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, will provide a detailed and helpful elaboration of the concept / topic in the Right Hand area of the Teacher Help section.</a:t>
            </a:r>
            <a:endParaRPr b="0" lang="en-US" sz="18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269720" y="-101520"/>
            <a:ext cx="10464840" cy="19936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9f8ed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b7786"/>
                </a:solidFill>
                <a:latin typeface="Century Gothic"/>
                <a:ea typeface="Century Gothic"/>
              </a:rPr>
              <a:t>TABS and Symbols</a:t>
            </a: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20560" y="761760"/>
            <a:ext cx="12319200" cy="237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68160" indent="-350640">
              <a:lnSpc>
                <a:spcPct val="100000"/>
              </a:lnSpc>
              <a:spcBef>
                <a:spcPts val="40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The Tabs provide a simple facility of navigation in Studywiz Teacher Help.</a:t>
            </a: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44" name="Rectangle 3"/>
          <p:cNvSpPr/>
          <p:nvPr/>
        </p:nvSpPr>
        <p:spPr>
          <a:xfrm>
            <a:off x="3658320" y="5469480"/>
            <a:ext cx="173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Close contents </a:t>
            </a:r>
            <a:endParaRPr b="0" lang="en-US" sz="1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45" name="Rectangle 4"/>
          <p:cNvSpPr/>
          <p:nvPr/>
        </p:nvSpPr>
        <p:spPr>
          <a:xfrm>
            <a:off x="279360" y="5987880"/>
            <a:ext cx="1150632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Open Contents and the X -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open and close the contents on the sidebar</a:t>
            </a:r>
            <a:endParaRPr b="0" lang="en-US" sz="1800" spc="-1" strike="noStrike">
              <a:solidFill>
                <a:srgbClr val="000000"/>
              </a:solidFill>
              <a:latin typeface="Cochin"/>
            </a:endParaRPr>
          </a:p>
          <a:p>
            <a:pPr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Search tool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 - Works with key vocab terms</a:t>
            </a:r>
            <a:endParaRPr b="0" lang="en-US" sz="1800" spc="-1" strike="noStrike">
              <a:solidFill>
                <a:srgbClr val="000000"/>
              </a:solidFill>
              <a:latin typeface="Cochin"/>
            </a:endParaRPr>
          </a:p>
          <a:p>
            <a:pPr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Move up &amp; down buttons - moves up and down the contents are and opens folders in process</a:t>
            </a:r>
            <a:endParaRPr b="0" lang="en-US" sz="1800" spc="-1" strike="noStrike">
              <a:solidFill>
                <a:srgbClr val="000000"/>
              </a:solidFill>
              <a:latin typeface="Cochin"/>
            </a:endParaRPr>
          </a:p>
          <a:p>
            <a:pPr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Add Favourites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View Favourites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 - Select a contents item, then click Add Favourite TAB in order to start making a list of favourites, then View Favourites Tab can be clicked each time you go into the Teacher Help area and your favourites list will appear.</a:t>
            </a:r>
            <a:endParaRPr b="0" lang="en-US" sz="1800" spc="-1" strike="noStrike">
              <a:solidFill>
                <a:srgbClr val="000000"/>
              </a:solidFill>
              <a:latin typeface="Cochin"/>
            </a:endParaRPr>
          </a:p>
        </p:txBody>
      </p:sp>
      <p:pic>
        <p:nvPicPr>
          <p:cNvPr id="546" name="Picture 5" descr=""/>
          <p:cNvPicPr/>
          <p:nvPr/>
        </p:nvPicPr>
        <p:blipFill>
          <a:blip r:embed="rId3"/>
          <a:stretch/>
        </p:blipFill>
        <p:spPr>
          <a:xfrm>
            <a:off x="787320" y="4127400"/>
            <a:ext cx="10490400" cy="762120"/>
          </a:xfrm>
          <a:prstGeom prst="rect">
            <a:avLst/>
          </a:prstGeom>
          <a:ln w="0">
            <a:noFill/>
          </a:ln>
        </p:spPr>
      </p:pic>
      <p:sp>
        <p:nvSpPr>
          <p:cNvPr id="547" name="Line 6"/>
          <p:cNvSpPr/>
          <p:nvPr/>
        </p:nvSpPr>
        <p:spPr>
          <a:xfrm flipH="1">
            <a:off x="4724280" y="4788000"/>
            <a:ext cx="12960" cy="622080"/>
          </a:xfrm>
          <a:prstGeom prst="line">
            <a:avLst/>
          </a:prstGeom>
          <a:ln w="38160">
            <a:solidFill>
              <a:srgbClr val="ff008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48" name="Rectangle 7"/>
          <p:cNvSpPr/>
          <p:nvPr/>
        </p:nvSpPr>
        <p:spPr>
          <a:xfrm>
            <a:off x="234360" y="3348720"/>
            <a:ext cx="1710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Open Contents</a:t>
            </a:r>
            <a:endParaRPr b="0" lang="en-US" sz="1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49" name="Line 8"/>
          <p:cNvSpPr/>
          <p:nvPr/>
        </p:nvSpPr>
        <p:spPr>
          <a:xfrm flipV="1">
            <a:off x="1257480" y="3682800"/>
            <a:ext cx="0" cy="546120"/>
          </a:xfrm>
          <a:prstGeom prst="line">
            <a:avLst/>
          </a:prstGeom>
          <a:ln w="38160">
            <a:solidFill>
              <a:srgbClr val="ff008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1226520" y="2751840"/>
            <a:ext cx="1285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Search tool</a:t>
            </a:r>
            <a:endParaRPr b="0" lang="en-US" sz="1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51" name="Line 10"/>
          <p:cNvSpPr/>
          <p:nvPr/>
        </p:nvSpPr>
        <p:spPr>
          <a:xfrm flipV="1">
            <a:off x="2044080" y="3123720"/>
            <a:ext cx="12600" cy="1143000"/>
          </a:xfrm>
          <a:prstGeom prst="line">
            <a:avLst/>
          </a:prstGeom>
          <a:ln w="38160">
            <a:solidFill>
              <a:srgbClr val="ff008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52" name="Rectangle 11"/>
          <p:cNvSpPr/>
          <p:nvPr/>
        </p:nvSpPr>
        <p:spPr>
          <a:xfrm>
            <a:off x="2106720" y="3272400"/>
            <a:ext cx="2891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Move up / down contents</a:t>
            </a:r>
            <a:endParaRPr b="0" lang="en-US" sz="1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53" name="Line 12"/>
          <p:cNvSpPr/>
          <p:nvPr/>
        </p:nvSpPr>
        <p:spPr>
          <a:xfrm flipV="1">
            <a:off x="2907720" y="3606840"/>
            <a:ext cx="406440" cy="558720"/>
          </a:xfrm>
          <a:prstGeom prst="line">
            <a:avLst/>
          </a:prstGeom>
          <a:ln w="38160">
            <a:solidFill>
              <a:srgbClr val="ff008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54" name="Line 13"/>
          <p:cNvSpPr/>
          <p:nvPr/>
        </p:nvSpPr>
        <p:spPr>
          <a:xfrm flipH="1" flipV="1">
            <a:off x="3340080" y="3606840"/>
            <a:ext cx="317520" cy="558720"/>
          </a:xfrm>
          <a:prstGeom prst="line">
            <a:avLst/>
          </a:prstGeom>
          <a:ln w="38160">
            <a:solidFill>
              <a:srgbClr val="ff008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55" name="Rectangle 14"/>
          <p:cNvSpPr/>
          <p:nvPr/>
        </p:nvSpPr>
        <p:spPr>
          <a:xfrm>
            <a:off x="5169960" y="3272400"/>
            <a:ext cx="3010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View Favourite Help Items</a:t>
            </a:r>
            <a:endParaRPr b="0" lang="en-US" sz="1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56" name="Line 15"/>
          <p:cNvSpPr/>
          <p:nvPr/>
        </p:nvSpPr>
        <p:spPr>
          <a:xfrm flipV="1">
            <a:off x="4559400" y="3517920"/>
            <a:ext cx="914400" cy="673200"/>
          </a:xfrm>
          <a:prstGeom prst="line">
            <a:avLst/>
          </a:prstGeom>
          <a:ln w="38160">
            <a:solidFill>
              <a:srgbClr val="ff008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57" name="Rectangle 16"/>
          <p:cNvSpPr/>
          <p:nvPr/>
        </p:nvSpPr>
        <p:spPr>
          <a:xfrm>
            <a:off x="8454600" y="3259800"/>
            <a:ext cx="279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Add Favourite Help Item</a:t>
            </a:r>
            <a:endParaRPr b="0" lang="en-US" sz="1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58" name="Line 17"/>
          <p:cNvSpPr/>
          <p:nvPr/>
        </p:nvSpPr>
        <p:spPr>
          <a:xfrm flipV="1">
            <a:off x="5410080" y="3517560"/>
            <a:ext cx="3213360" cy="723960"/>
          </a:xfrm>
          <a:prstGeom prst="line">
            <a:avLst/>
          </a:prstGeom>
          <a:ln w="38160">
            <a:solidFill>
              <a:srgbClr val="ff008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269720" y="-101520"/>
            <a:ext cx="10464840" cy="19936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9f8ed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b7786"/>
                </a:solidFill>
                <a:latin typeface="Century Gothic"/>
                <a:ea typeface="Century Gothic"/>
              </a:rPr>
              <a:t>TABS and Symbols</a:t>
            </a: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20560" y="761760"/>
            <a:ext cx="12319200" cy="237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68160" indent="-350640">
              <a:lnSpc>
                <a:spcPct val="100000"/>
              </a:lnSpc>
              <a:spcBef>
                <a:spcPts val="40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The Tabs provide a simple facility of navigation in Studywiz Teacher Help.</a:t>
            </a: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61" name="Rectangle 3"/>
          <p:cNvSpPr/>
          <p:nvPr/>
        </p:nvSpPr>
        <p:spPr>
          <a:xfrm>
            <a:off x="7913520" y="5449320"/>
            <a:ext cx="4170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Shows Full Hierarchy separated by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62" name="Rectangle 4"/>
          <p:cNvSpPr/>
          <p:nvPr/>
        </p:nvSpPr>
        <p:spPr>
          <a:xfrm>
            <a:off x="279360" y="6661080"/>
            <a:ext cx="11506320" cy="19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Hierarchy List -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Shows the list in levels of the contents</a:t>
            </a:r>
            <a:endParaRPr b="0" lang="en-US" sz="1800" spc="-1" strike="noStrike">
              <a:solidFill>
                <a:srgbClr val="000000"/>
              </a:solidFill>
              <a:latin typeface="Cochin"/>
            </a:endParaRPr>
          </a:p>
          <a:p>
            <a:pPr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Print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 - Brings up the print dialogue box</a:t>
            </a:r>
            <a:endParaRPr b="0" lang="en-US" sz="1800" spc="-1" strike="noStrike">
              <a:solidFill>
                <a:srgbClr val="000000"/>
              </a:solidFill>
              <a:latin typeface="Cochin"/>
            </a:endParaRPr>
          </a:p>
          <a:p>
            <a:pPr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Email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 - Syncs with your mail program on laptop to send an email to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entury Gothic"/>
                <a:ea typeface="Century Gothic"/>
                <a:hlinkClick r:id="rId3"/>
              </a:rPr>
              <a:t>s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entury Gothic"/>
                <a:ea typeface="Century Gothic"/>
                <a:hlinkClick r:id="rId4"/>
              </a:rPr>
              <a:t>upport@studywiz.com</a:t>
            </a:r>
            <a:endParaRPr b="0" lang="en-US" sz="1800" spc="-1" strike="noStrike">
              <a:solidFill>
                <a:srgbClr val="000000"/>
              </a:solidFill>
              <a:latin typeface="Cochin"/>
            </a:endParaRPr>
          </a:p>
        </p:txBody>
      </p:sp>
      <p:pic>
        <p:nvPicPr>
          <p:cNvPr id="563" name="Picture 5" descr=""/>
          <p:cNvPicPr/>
          <p:nvPr/>
        </p:nvPicPr>
        <p:blipFill>
          <a:blip r:embed="rId5"/>
          <a:stretch/>
        </p:blipFill>
        <p:spPr>
          <a:xfrm>
            <a:off x="787320" y="4127400"/>
            <a:ext cx="10490400" cy="762120"/>
          </a:xfrm>
          <a:prstGeom prst="rect">
            <a:avLst/>
          </a:prstGeom>
          <a:ln w="0">
            <a:noFill/>
          </a:ln>
        </p:spPr>
      </p:pic>
      <p:sp>
        <p:nvSpPr>
          <p:cNvPr id="564" name="Line 6"/>
          <p:cNvSpPr/>
          <p:nvPr/>
        </p:nvSpPr>
        <p:spPr>
          <a:xfrm>
            <a:off x="6629400" y="4788000"/>
            <a:ext cx="1523880" cy="761760"/>
          </a:xfrm>
          <a:prstGeom prst="line">
            <a:avLst/>
          </a:prstGeom>
          <a:ln w="38160">
            <a:solidFill>
              <a:srgbClr val="ff008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65" name="Rectangle 7"/>
          <p:cNvSpPr/>
          <p:nvPr/>
        </p:nvSpPr>
        <p:spPr>
          <a:xfrm>
            <a:off x="9141120" y="3704400"/>
            <a:ext cx="1742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Allows Printing</a:t>
            </a:r>
            <a:endParaRPr b="0" lang="en-US" sz="1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66" name="Line 8"/>
          <p:cNvSpPr/>
          <p:nvPr/>
        </p:nvSpPr>
        <p:spPr>
          <a:xfrm flipV="1">
            <a:off x="10655280" y="4038120"/>
            <a:ext cx="0" cy="546120"/>
          </a:xfrm>
          <a:prstGeom prst="line">
            <a:avLst/>
          </a:prstGeom>
          <a:ln w="38160">
            <a:solidFill>
              <a:srgbClr val="ff008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67" name="Rectangle 9"/>
          <p:cNvSpPr/>
          <p:nvPr/>
        </p:nvSpPr>
        <p:spPr>
          <a:xfrm>
            <a:off x="8134200" y="3156120"/>
            <a:ext cx="5054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Sends email to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entury Gothic"/>
                <a:ea typeface="Century Gothic"/>
                <a:hlinkClick r:id="rId6"/>
              </a:rPr>
              <a:t>s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entury Gothic"/>
                <a:ea typeface="Century Gothic"/>
                <a:hlinkClick r:id="rId7"/>
              </a:rPr>
              <a:t>upport@studywiz.com</a:t>
            </a:r>
            <a:endParaRPr b="0" lang="en-US" sz="1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68" name="Line 10"/>
          <p:cNvSpPr/>
          <p:nvPr/>
        </p:nvSpPr>
        <p:spPr>
          <a:xfrm flipV="1">
            <a:off x="11061720" y="3479400"/>
            <a:ext cx="393840" cy="1181160"/>
          </a:xfrm>
          <a:prstGeom prst="line">
            <a:avLst/>
          </a:prstGeom>
          <a:ln w="38160">
            <a:solidFill>
              <a:srgbClr val="ff008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69" name="Line 11"/>
          <p:cNvSpPr/>
          <p:nvPr/>
        </p:nvSpPr>
        <p:spPr>
          <a:xfrm>
            <a:off x="8204040" y="4863960"/>
            <a:ext cx="0" cy="622440"/>
          </a:xfrm>
          <a:prstGeom prst="line">
            <a:avLst/>
          </a:prstGeom>
          <a:ln w="38160">
            <a:solidFill>
              <a:srgbClr val="ff008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mhennessy Work</cp:lastModifiedBy>
  <dcterms:modified xsi:type="dcterms:W3CDTF">2010-04-08T20:50:47Z</dcterms:modified>
  <cp:revision>3</cp:revision>
  <dc:subject/>
  <dc:title>Slide 1</dc:title>
</cp:coreProperties>
</file>